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A9AEE-81B2-488B-A4DB-8CDE694C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F8A52-5355-48E2-961A-8DC68AF8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23839-E908-405B-9AE1-8FAF577E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95DEE-40CB-4CE8-B8A8-8C095BFD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9651-09D7-4E98-A7B1-A8B1BF4C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6549-4DA3-4E98-B3F2-D3EC28B3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05B5-B929-4E38-A835-9CD9965C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159C-8F2A-44AE-A5BB-AF619233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9DD8-AF8F-4AF6-BEEF-3585961B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7BF7-EC7B-4D43-8CBA-B43138D2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F702-00DE-401C-A8DC-00944FA9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683D1-5DFC-4610-9012-25A34415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255E-820C-4A9D-9DB9-BB26C0B7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6C10-BF6C-4EC0-A9F1-D20C91BE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7F6D-E0C7-4C10-9ADC-17E13F63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C834-6CE4-4450-A6F3-4E700F60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6BE4-695F-40CD-BE57-4D2E5753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331C8-4D74-498E-A317-CB74C87E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08CE9-885B-4426-AC5D-5441E195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1C6A8-7915-47BD-AFE3-A8D232FA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BA71A-D3FF-4C9E-AC8C-8C3890B3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498C9-D628-460B-9E79-57D5B995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B4CAB-7FF9-4D03-87E9-3D5EC47D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BBB0E-FF45-49B0-A5F6-2E8BAF08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D467-993F-4986-BFD7-76BD915D622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00C1-BE12-46CD-BC3B-D969F7A24DB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PICH2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PI-2 demos using pman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fen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-2 RMA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Win_cre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P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ter puts work in worker wind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aves do work and put results in root’s wind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2057400"/>
            <a:ext cx="4267080" cy="3733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61400" y="350532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52760" y="38862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Put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61400" y="42670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8160" y="464832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Put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2438280"/>
            <a:ext cx="19810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96080" y="2743200"/>
            <a:ext cx="4572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4419720"/>
            <a:ext cx="4572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5410080"/>
            <a:ext cx="45720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32160" y="3255840"/>
            <a:ext cx="311040" cy="2306880"/>
          </a:xfrm>
          <a:custGeom>
            <a:avLst/>
            <a:gdLst/>
            <a:ahLst/>
            <a:rect l="l" t="t" r="r" b="b"/>
            <a:pathLst>
              <a:path w="196" h="1271">
                <a:moveTo>
                  <a:pt x="196" y="1117"/>
                </a:moveTo>
                <a:cubicBezTo>
                  <a:pt x="176" y="1129"/>
                  <a:pt x="105" y="1271"/>
                  <a:pt x="73" y="1189"/>
                </a:cubicBezTo>
                <a:cubicBezTo>
                  <a:pt x="41" y="1107"/>
                  <a:pt x="0" y="808"/>
                  <a:pt x="1" y="623"/>
                </a:cubicBezTo>
                <a:cubicBezTo>
                  <a:pt x="2" y="438"/>
                  <a:pt x="46" y="156"/>
                  <a:pt x="78" y="78"/>
                </a:cubicBezTo>
                <a:cubicBezTo>
                  <a:pt x="110" y="0"/>
                  <a:pt x="172" y="141"/>
                  <a:pt x="196" y="15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867280" y="2819520"/>
            <a:ext cx="1981440" cy="2590560"/>
            <a:chOff x="5867280" y="2819520"/>
            <a:chExt cx="1981440" cy="2590560"/>
          </a:xfrm>
        </p:grpSpPr>
        <p:sp>
          <p:nvSpPr>
            <p:cNvPr id="228" name=""/>
            <p:cNvSpPr/>
            <p:nvPr/>
          </p:nvSpPr>
          <p:spPr>
            <a:xfrm flipV="1">
              <a:off x="5867280" y="2819520"/>
              <a:ext cx="182880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3200400"/>
              <a:ext cx="198144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67280" y="3276720"/>
              <a:ext cx="381240" cy="2133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876920" y="2666520"/>
            <a:ext cx="2285280" cy="2057400"/>
            <a:chOff x="4876920" y="2666520"/>
            <a:chExt cx="2285280" cy="2057400"/>
          </a:xfrm>
        </p:grpSpPr>
        <p:sp>
          <p:nvSpPr>
            <p:cNvPr id="232" name=""/>
            <p:cNvSpPr/>
            <p:nvPr/>
          </p:nvSpPr>
          <p:spPr>
            <a:xfrm flipH="1" flipV="1">
              <a:off x="4876920" y="2666520"/>
              <a:ext cx="41544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5811480" y="2666880"/>
              <a:ext cx="1246680" cy="1928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6746760" y="2666880"/>
              <a:ext cx="415440" cy="642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561400" y="49528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59240" y="213372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cre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24" idx="2"/>
            <a:endCxn id="238" idx="6"/>
          </p:cNvCxnSpPr>
          <p:nvPr/>
        </p:nvCxnSpPr>
        <p:spPr>
          <a:xfrm flipH="1">
            <a:off x="7695360" y="4571640"/>
            <a:ext cx="30564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25" idx="0"/>
            <a:endCxn id="225" idx="0"/>
          </p:cNvCxnSpPr>
          <p:nvPr/>
        </p:nvCxnSpPr>
        <p:spPr>
          <a:xfrm>
            <a:off x="6095520" y="54097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25" idx="0"/>
            <a:endCxn id="240" idx="5"/>
          </p:cNvCxnSpPr>
          <p:nvPr/>
        </p:nvCxnSpPr>
        <p:spPr>
          <a:xfrm flipH="1" flipV="1">
            <a:off x="5886000" y="5200200"/>
            <a:ext cx="210240" cy="2102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3" name=""/>
          <p:cNvCxnSpPr>
            <a:stCxn id="223" idx="2"/>
            <a:endCxn id="241" idx="7"/>
          </p:cNvCxnSpPr>
          <p:nvPr/>
        </p:nvCxnSpPr>
        <p:spPr>
          <a:xfrm flipH="1">
            <a:off x="7562160" y="2895120"/>
            <a:ext cx="362520" cy="134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4" name=""/>
          <p:cNvCxnSpPr>
            <a:stCxn id="212" idx="0"/>
            <a:endCxn id="222" idx="2"/>
          </p:cNvCxnSpPr>
          <p:nvPr/>
        </p:nvCxnSpPr>
        <p:spPr>
          <a:xfrm flipV="1">
            <a:off x="5562720" y="2666160"/>
            <a:ext cx="3052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2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10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1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1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-1 functions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Send, MPI_Recv, MPI_Bcast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c MPI_COMM_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 communicates with the root process using a soc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2362320"/>
            <a:ext cx="3886200" cy="3429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ervi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o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Open_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Comm_acce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Comm_conn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MPI_COMM_WORL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ter + work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76920" y="1752480"/>
          <a:ext cx="4038480" cy="425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752480"/>
                    <a:ext cx="403848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419720" y="2362320"/>
            <a:ext cx="3886200" cy="3429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45" idx="1"/>
            <a:endCxn id="145" idx="1"/>
          </p:cNvCxnSpPr>
          <p:nvPr/>
        </p:nvCxnSpPr>
        <p:spPr>
          <a:xfrm>
            <a:off x="4987440" y="28634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45" idx="1"/>
            <a:endCxn id="145" idx="1"/>
          </p:cNvCxnSpPr>
          <p:nvPr/>
        </p:nvCxnSpPr>
        <p:spPr>
          <a:xfrm>
            <a:off x="4987440" y="28634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4" name=""/>
          <p:cNvCxnSpPr>
            <a:stCxn id="152" idx="5"/>
            <a:endCxn id="147" idx="1"/>
          </p:cNvCxnSpPr>
          <p:nvPr/>
        </p:nvCxnSpPr>
        <p:spPr>
          <a:xfrm>
            <a:off x="4930560" y="2720880"/>
            <a:ext cx="308520" cy="308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762120" y="2209680"/>
            <a:ext cx="1676160" cy="1546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6" idx="3"/>
            <a:endCxn id="158" idx="3"/>
          </p:cNvCxnSpPr>
          <p:nvPr/>
        </p:nvCxnSpPr>
        <p:spPr>
          <a:xfrm flipH="1">
            <a:off x="2133360" y="2720520"/>
            <a:ext cx="327600" cy="251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26668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29880" y="19051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en_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ac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55680" y="213372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conn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paw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ynamic Proce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gle mas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ple sla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PI_Comm_spaw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oot communicates with the workers using MPI function calls over the intercommunica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ualizer communicates with the root using a sock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4" idx="6"/>
            <a:endCxn id="176" idx="2"/>
          </p:cNvCxnSpPr>
          <p:nvPr/>
        </p:nvCxnSpPr>
        <p:spPr>
          <a:xfrm>
            <a:off x="6019920" y="3352320"/>
            <a:ext cx="7624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4" idx="4"/>
            <a:endCxn id="175" idx="0"/>
          </p:cNvCxnSpPr>
          <p:nvPr/>
        </p:nvCxnSpPr>
        <p:spPr>
          <a:xfrm>
            <a:off x="5562360" y="380988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4" idx="5"/>
            <a:endCxn id="177" idx="1"/>
          </p:cNvCxnSpPr>
          <p:nvPr/>
        </p:nvCxnSpPr>
        <p:spPr>
          <a:xfrm>
            <a:off x="5886360" y="3676680"/>
            <a:ext cx="1029600" cy="876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5777640" y="198108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-communic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paserv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ynamic processes and 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gle ma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Open_port, MPI_Comm_acce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Comm_spawn to spawn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 connects via MPI_Comm_conn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5308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2" idx="6"/>
            <a:endCxn id="194" idx="2"/>
          </p:cNvCxnSpPr>
          <p:nvPr/>
        </p:nvCxnSpPr>
        <p:spPr>
          <a:xfrm>
            <a:off x="6019920" y="3352320"/>
            <a:ext cx="7624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2" idx="4"/>
            <a:endCxn id="193" idx="0"/>
          </p:cNvCxnSpPr>
          <p:nvPr/>
        </p:nvCxnSpPr>
        <p:spPr>
          <a:xfrm>
            <a:off x="5562360" y="380988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2" idx="5"/>
            <a:endCxn id="195" idx="1"/>
          </p:cNvCxnSpPr>
          <p:nvPr/>
        </p:nvCxnSpPr>
        <p:spPr>
          <a:xfrm>
            <a:off x="5886360" y="3676680"/>
            <a:ext cx="1029600" cy="876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5777640" y="563868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-communic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200" idx="5"/>
          </p:cNvCxnSpPr>
          <p:nvPr/>
        </p:nvCxnSpPr>
        <p:spPr>
          <a:xfrm>
            <a:off x="4930560" y="2720880"/>
            <a:ext cx="308520" cy="308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3"/>
          </p:cNvCxnSpPr>
          <p:nvPr/>
        </p:nvCxnSpPr>
        <p:spPr>
          <a:xfrm flipH="1">
            <a:off x="2133360" y="2720520"/>
            <a:ext cx="327600" cy="251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2590920" y="26668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29880" y="19051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en_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ac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55680" y="213372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conn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2209680"/>
            <a:ext cx="1676160" cy="1546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07:15:40Z</dcterms:created>
  <dc:creator>David Ashton</dc:creator>
  <dc:description/>
  <dc:language>en-US</dc:language>
  <cp:lastModifiedBy>David Ashton</cp:lastModifiedBy>
  <dcterms:modified xsi:type="dcterms:W3CDTF">2003-11-14T08:25:36Z</dcterms:modified>
  <cp:revision>2</cp:revision>
  <dc:subject/>
  <dc:title>MPICH2</dc:title>
</cp:coreProperties>
</file>