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300B3-5EB0-42CD-BA06-07858D40F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035BC-1196-4389-AD08-F0D9127C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882F7-BF96-4985-9E11-4888C5C38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374C3-BE49-4288-8CC3-7BD2FA248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A8DC-329F-4DB8-BE48-0FDF4ED97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99E9-5C5A-4516-B0E3-01305B29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A5FF-5409-49EC-AC98-10D1C25F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7C3D-149B-44D5-89D0-FF9A9988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B0CD-1A24-4D62-956B-9B470A1E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5DB8-80C9-413C-B98F-A70C5AE4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7480-884F-4D0D-8D95-7F550B53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8B4A0-AEEC-4662-BBCD-10AAA910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9A4B-E825-4F61-9559-73DB17BD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0775-8C4D-4170-9705-CC8CF009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BB55-2B02-414B-B221-C6725C80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0452-7AC1-47B8-ACBD-407DEBB6B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0E59-F33B-4606-97F5-7C65A42B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C244E-F4C2-4D66-9601-5F160AA8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6DC5C-58EF-4873-A5D0-8F546DB9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44BEB-C1D5-4EB4-9A75-A45D6EFC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545A3-8361-4A31-B57E-6011A6B95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553A9-2F97-4884-AF1D-5DCE6826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6D0CA-34C7-4C5D-A2DB-D1CDE2FF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E84DD-7884-442F-A02A-0F9DB9C0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0F55-8C03-4B87-8973-9ABA10D1D71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1076-B3A9-4F4A-9F64-A7A03012690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MPICH2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PI-2 demos using pman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fen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-2 RMA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Win_cre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P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ter puts work in worker windo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laves do work and put results in root’s wind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2057400"/>
            <a:ext cx="4267080" cy="3733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33720" y="2971800"/>
            <a:ext cx="2971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48400" y="27432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61400" y="350532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52760" y="388620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Put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61400" y="426708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58160" y="464832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Put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76920" y="2438280"/>
            <a:ext cx="198108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96080" y="2743200"/>
            <a:ext cx="4572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4419720"/>
            <a:ext cx="4572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7280" y="5410080"/>
            <a:ext cx="457200" cy="15264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32160" y="3255840"/>
            <a:ext cx="311040" cy="2306880"/>
          </a:xfrm>
          <a:custGeom>
            <a:avLst/>
            <a:gdLst/>
            <a:ahLst/>
            <a:rect l="l" t="t" r="r" b="b"/>
            <a:pathLst>
              <a:path w="196" h="1271">
                <a:moveTo>
                  <a:pt x="196" y="1117"/>
                </a:moveTo>
                <a:cubicBezTo>
                  <a:pt x="176" y="1129"/>
                  <a:pt x="105" y="1271"/>
                  <a:pt x="73" y="1189"/>
                </a:cubicBezTo>
                <a:cubicBezTo>
                  <a:pt x="41" y="1107"/>
                  <a:pt x="0" y="808"/>
                  <a:pt x="1" y="623"/>
                </a:cubicBezTo>
                <a:cubicBezTo>
                  <a:pt x="2" y="438"/>
                  <a:pt x="46" y="156"/>
                  <a:pt x="78" y="78"/>
                </a:cubicBezTo>
                <a:cubicBezTo>
                  <a:pt x="110" y="0"/>
                  <a:pt x="172" y="141"/>
                  <a:pt x="196" y="157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867280" y="2819520"/>
            <a:ext cx="1981440" cy="2590560"/>
            <a:chOff x="5867280" y="2819520"/>
            <a:chExt cx="1981440" cy="2590560"/>
          </a:xfrm>
        </p:grpSpPr>
        <p:sp>
          <p:nvSpPr>
            <p:cNvPr id="228" name=""/>
            <p:cNvSpPr/>
            <p:nvPr/>
          </p:nvSpPr>
          <p:spPr>
            <a:xfrm flipV="1">
              <a:off x="5867280" y="2819520"/>
              <a:ext cx="182880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67280" y="3200400"/>
              <a:ext cx="1981440" cy="12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67280" y="3276720"/>
              <a:ext cx="381240" cy="2133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876920" y="2666520"/>
            <a:ext cx="2285280" cy="2057400"/>
            <a:chOff x="4876920" y="2666520"/>
            <a:chExt cx="2285280" cy="2057400"/>
          </a:xfrm>
        </p:grpSpPr>
        <p:sp>
          <p:nvSpPr>
            <p:cNvPr id="232" name=""/>
            <p:cNvSpPr/>
            <p:nvPr/>
          </p:nvSpPr>
          <p:spPr>
            <a:xfrm flipH="1" flipV="1">
              <a:off x="4876920" y="2666520"/>
              <a:ext cx="415440" cy="20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5811480" y="2666880"/>
              <a:ext cx="1246680" cy="1928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6746760" y="2666880"/>
              <a:ext cx="415440" cy="642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561400" y="495288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f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59240" y="213372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PI_Win_cre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7" name=""/>
          <p:cNvCxnSpPr>
            <a:stCxn id="224" idx="2"/>
            <a:endCxn id="238" idx="6"/>
          </p:cNvCxnSpPr>
          <p:nvPr/>
        </p:nvCxnSpPr>
        <p:spPr>
          <a:xfrm flipH="1">
            <a:off x="7695360" y="4571640"/>
            <a:ext cx="305640" cy="305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25" idx="0"/>
            <a:endCxn id="225" idx="0"/>
          </p:cNvCxnSpPr>
          <p:nvPr/>
        </p:nvCxnSpPr>
        <p:spPr>
          <a:xfrm>
            <a:off x="6095520" y="54097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2" name=""/>
          <p:cNvCxnSpPr>
            <a:stCxn id="225" idx="0"/>
            <a:endCxn id="240" idx="5"/>
          </p:cNvCxnSpPr>
          <p:nvPr/>
        </p:nvCxnSpPr>
        <p:spPr>
          <a:xfrm flipH="1" flipV="1">
            <a:off x="5886000" y="5200200"/>
            <a:ext cx="210240" cy="2102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43" name=""/>
          <p:cNvCxnSpPr>
            <a:stCxn id="223" idx="2"/>
            <a:endCxn id="241" idx="7"/>
          </p:cNvCxnSpPr>
          <p:nvPr/>
        </p:nvCxnSpPr>
        <p:spPr>
          <a:xfrm flipH="1">
            <a:off x="7562160" y="2895120"/>
            <a:ext cx="362520" cy="1342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44" name=""/>
          <p:cNvCxnSpPr>
            <a:stCxn id="212" idx="0"/>
            <a:endCxn id="222" idx="2"/>
          </p:cNvCxnSpPr>
          <p:nvPr/>
        </p:nvCxnSpPr>
        <p:spPr>
          <a:xfrm flipV="1">
            <a:off x="5562720" y="2666160"/>
            <a:ext cx="30528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2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1000" fill="hold"/>
                                        <p:tgtEl>
                                          <p:spTgt spid="2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1000" fill="hold"/>
                                        <p:tgtEl>
                                          <p:spTgt spid="2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1000" fill="hold"/>
                                        <p:tgtEl>
                                          <p:spTgt spid="2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-1 functions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Send, MPI_Recv, MPI_Bcast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ic MPI_COMM_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izer communicates with the root process using a sock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19720" y="2362320"/>
            <a:ext cx="3886200" cy="3429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2971800"/>
            <a:ext cx="2971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48400" y="27432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servi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o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Open_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Comm_accep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Comm_conn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MPI_COMM_WORL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ter + work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876920" y="1752480"/>
          <a:ext cx="4038480" cy="425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752480"/>
                    <a:ext cx="4038480" cy="42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419720" y="2362320"/>
            <a:ext cx="3886200" cy="3429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1" name=""/>
          <p:cNvCxnSpPr>
            <a:stCxn id="145" idx="1"/>
            <a:endCxn id="145" idx="1"/>
          </p:cNvCxnSpPr>
          <p:nvPr/>
        </p:nvCxnSpPr>
        <p:spPr>
          <a:xfrm>
            <a:off x="4987440" y="28634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2" name=""/>
          <p:cNvSpPr/>
          <p:nvPr/>
        </p:nvSpPr>
        <p:spPr>
          <a:xfrm>
            <a:off x="4800600" y="2590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45" idx="1"/>
            <a:endCxn id="145" idx="1"/>
          </p:cNvCxnSpPr>
          <p:nvPr/>
        </p:nvCxnSpPr>
        <p:spPr>
          <a:xfrm>
            <a:off x="4987440" y="28634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54" name=""/>
          <p:cNvCxnSpPr>
            <a:stCxn id="152" idx="5"/>
            <a:endCxn id="147" idx="1"/>
          </p:cNvCxnSpPr>
          <p:nvPr/>
        </p:nvCxnSpPr>
        <p:spPr>
          <a:xfrm>
            <a:off x="4930560" y="2720880"/>
            <a:ext cx="308520" cy="308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762120" y="2209680"/>
            <a:ext cx="1676160" cy="1546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25909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6" idx="3"/>
            <a:endCxn id="158" idx="3"/>
          </p:cNvCxnSpPr>
          <p:nvPr/>
        </p:nvCxnSpPr>
        <p:spPr>
          <a:xfrm flipH="1">
            <a:off x="2133360" y="2720520"/>
            <a:ext cx="327600" cy="251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26668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29880" y="19051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pen_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ac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55680" y="213372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conn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spaw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ynamic Proces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ngle mas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ltiple sla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PI_Comm_spaw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oot communicates with the workers using MPI function calls over the intercommunica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sualizer communicates with the root using a sock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971800"/>
            <a:ext cx="29718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48400" y="274320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5308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4" idx="6"/>
            <a:endCxn id="176" idx="2"/>
          </p:cNvCxnSpPr>
          <p:nvPr/>
        </p:nvCxnSpPr>
        <p:spPr>
          <a:xfrm>
            <a:off x="6019920" y="3352320"/>
            <a:ext cx="7624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4" idx="4"/>
            <a:endCxn id="175" idx="0"/>
          </p:cNvCxnSpPr>
          <p:nvPr/>
        </p:nvCxnSpPr>
        <p:spPr>
          <a:xfrm>
            <a:off x="5562360" y="3809880"/>
            <a:ext cx="10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4" idx="5"/>
            <a:endCxn id="177" idx="1"/>
          </p:cNvCxnSpPr>
          <p:nvPr/>
        </p:nvCxnSpPr>
        <p:spPr>
          <a:xfrm>
            <a:off x="5886360" y="3676680"/>
            <a:ext cx="1029600" cy="876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5777640" y="1981080"/>
            <a:ext cx="23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a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-communic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mandel_spaserv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ynamic processes and 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gle ma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_Open_port, MPI_Comm_accep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_Comm_spawn to spawn wor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ualizer connects via MPI_Comm_conn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648320" y="1739880"/>
          <a:ext cx="4038480" cy="42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39880"/>
                    <a:ext cx="4038480" cy="42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2514600"/>
            <a:ext cx="106704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isualiz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553080" y="266688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53080" y="419112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0552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81680" y="28954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44197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92" idx="6"/>
            <a:endCxn id="194" idx="2"/>
          </p:cNvCxnSpPr>
          <p:nvPr/>
        </p:nvCxnSpPr>
        <p:spPr>
          <a:xfrm>
            <a:off x="6019920" y="3352320"/>
            <a:ext cx="7624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2" idx="4"/>
            <a:endCxn id="193" idx="0"/>
          </p:cNvCxnSpPr>
          <p:nvPr/>
        </p:nvCxnSpPr>
        <p:spPr>
          <a:xfrm>
            <a:off x="5562360" y="3809880"/>
            <a:ext cx="10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2" idx="5"/>
            <a:endCxn id="195" idx="1"/>
          </p:cNvCxnSpPr>
          <p:nvPr/>
        </p:nvCxnSpPr>
        <p:spPr>
          <a:xfrm>
            <a:off x="5886360" y="3676680"/>
            <a:ext cx="1029600" cy="876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5777640" y="5638680"/>
            <a:ext cx="23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a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r-communic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25909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200" idx="5"/>
          </p:cNvCxnSpPr>
          <p:nvPr/>
        </p:nvCxnSpPr>
        <p:spPr>
          <a:xfrm>
            <a:off x="4930560" y="2720880"/>
            <a:ext cx="308520" cy="3088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2438280" y="25909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3"/>
          </p:cNvCxnSpPr>
          <p:nvPr/>
        </p:nvCxnSpPr>
        <p:spPr>
          <a:xfrm flipH="1">
            <a:off x="2133360" y="2720520"/>
            <a:ext cx="327600" cy="2516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2590920" y="26668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29880" y="19051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pen_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accep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55680" y="213372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_conn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2209680"/>
            <a:ext cx="1676160" cy="1546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4T07:15:40Z</dcterms:created>
  <dc:creator>David Ashton</dc:creator>
  <dc:description/>
  <dc:language>en-US</dc:language>
  <cp:lastModifiedBy>David Ashton</cp:lastModifiedBy>
  <dcterms:modified xsi:type="dcterms:W3CDTF">2003-11-14T08:25:36Z</dcterms:modified>
  <cp:revision>2</cp:revision>
  <dc:subject/>
  <dc:title>MPICH2</dc:title>
</cp:coreProperties>
</file>